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E0B-A734-487D-A9F5-6F8C2EEA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826-58A4-4BD7-B768-8471D898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85F-193B-4641-B17A-F81F43E0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2F7-4A6D-4793-AB1F-D6DC0CAF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B68-5A3F-4ED5-B9BD-91FE9C98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FA7-8BC5-4CA8-B1CC-9F922705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E70-4F38-44EA-983C-EAF29263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91E-5EB7-48D0-9248-F8A67DFE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D32-E8FC-46D5-A186-AAD077EC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C4C-B4C2-4A23-BF31-74E4BA1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D22-9977-4B8E-93F0-2054B901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639-7CA4-432C-BFAC-458810B6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9C73-944F-4437-9D38-AD526CC9E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alis.com/source/blog/http:/www.talis.com/source/blog/images/Stop.jpeg&amp;imgrefurl=http://www.talis.com/source/blog/2007/02/&amp;usg=__vabcId4jnjZKPSvwvSZs4PqQTRs=&amp;h=346&amp;w=347&amp;sz=44&amp;hl=en&amp;start=1&amp;um=1&amp;tbnid=jzb3D2f8kuCMJM:&amp;tbnh=120&amp;tbnw=120&amp;prev=/images%3Fq%3Dstop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on the 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Connor St. Pier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-30492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all around the 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14400" y="1357200"/>
            <a:ext cx="7361280" cy="5043600"/>
          </a:xfrm>
          <a:prstGeom prst="rect">
            <a:avLst/>
          </a:prstGeom>
          <a:ln w="0">
            <a:noFill/>
          </a:ln>
        </p:spPr>
      </p:pic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the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3152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the golf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371600" y="1714680"/>
            <a:ext cx="6300720" cy="42289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a persons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90720" y="1768320"/>
            <a:ext cx="6781680" cy="443880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-3049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ould not find a good place to 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46748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-60948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 at his house his friends were worri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66680" y="1508040"/>
            <a:ext cx="7239240" cy="4892760"/>
          </a:xfrm>
          <a:prstGeom prst="rect">
            <a:avLst/>
          </a:prstGeom>
          <a:ln w="0">
            <a:noFill/>
          </a:ln>
        </p:spPr>
      </p:pic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friends went to look for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fineartamerica.com/images-medium/looking-in-robert-harris.jpg"/>
          <p:cNvPicPr/>
          <p:nvPr/>
        </p:nvPicPr>
        <p:blipFill>
          <a:blip r:embed="rId3"/>
          <a:stretch/>
        </p:blipFill>
        <p:spPr>
          <a:xfrm>
            <a:off x="457200" y="1592280"/>
            <a:ext cx="82296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hey found him he was sleeping under a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2012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sked him to come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alibri"/>
              </a:rPr>
              <a:t>Plea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1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pologiz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Recorded Sound" descr=""/>
          <p:cNvPicPr/>
          <p:nvPr/>
        </p:nvPicPr>
        <p:blipFill>
          <a:blip r:embed="rId1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69608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on has many fri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tatic.guim.co.uk/Guardian/world/gallery/2008/jun/03/wildlife/GD7504324@Giant-Pandas-eat-bamb-7071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8520"/>
          </a:xfrm>
          <a:prstGeom prst="rect">
            <a:avLst/>
          </a:prstGeom>
          <a:ln w="0">
            <a:noFill/>
          </a:ln>
        </p:spPr>
      </p:pic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-30492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ame home and he was hap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Recorded Sound" descr=""/>
          <p:cNvPicPr/>
          <p:nvPr/>
        </p:nvPicPr>
        <p:blipFill>
          <a:blip r:embed="rId1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609588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different than his fri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ifferent land animals"/>
          <p:cNvPicPr/>
          <p:nvPr/>
        </p:nvPicPr>
        <p:blipFill>
          <a:blip r:embed="rId1"/>
          <a:stretch/>
        </p:blipFill>
        <p:spPr>
          <a:xfrm>
            <a:off x="457200" y="1643040"/>
            <a:ext cx="8229600" cy="4519800"/>
          </a:xfrm>
          <a:prstGeom prst="rect">
            <a:avLst/>
          </a:prstGeom>
          <a:ln w="0">
            <a:noFill/>
          </a:ln>
        </p:spPr>
      </p:pic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-45720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had red hair and his friends had black and white h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www.hoglezoo.org/images/animal_finder/RedPanda_1.jpg"/>
          <p:cNvPicPr/>
          <p:nvPr/>
        </p:nvPicPr>
        <p:blipFill>
          <a:blip r:embed="rId1"/>
          <a:stretch/>
        </p:blipFill>
        <p:spPr>
          <a:xfrm>
            <a:off x="457200" y="160020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static.guim.co.uk/Guardian/world/gallery/2008/jun/03/wildlife/GD7504324@Giant-Pandas-eat-bamb-7071.jpg"/>
          <p:cNvPicPr/>
          <p:nvPr/>
        </p:nvPicPr>
        <p:blipFill>
          <a:blip r:embed="rId2"/>
          <a:stretch/>
        </p:blipFill>
        <p:spPr>
          <a:xfrm>
            <a:off x="4818240" y="1600200"/>
            <a:ext cx="386856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3"/>
          <a:stretch/>
        </p:blipFill>
        <p:spPr>
          <a:xfrm>
            <a:off x="-45720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made fun of him because of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clipartof.com/images/clipart/xsmall2/14436_grumpy_ginger_cat_with_fish_making_fun_of_him_in_a_fishbowl_stuck_on_his_head.jpg"/>
          <p:cNvPicPr/>
          <p:nvPr/>
        </p:nvPicPr>
        <p:blipFill>
          <a:blip r:embed="rId1"/>
          <a:stretch/>
        </p:blipFill>
        <p:spPr>
          <a:xfrm>
            <a:off x="457200" y="1619280"/>
            <a:ext cx="8229600" cy="480060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-30492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made him very s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msp59.photobucket.com/albums/g308/polito_2006/Sad_Face_by_hornsholdmyhalo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-3049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nted his friends to s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tbn3.google.com/images?q=tbn:jzb3D2f8kuCMJM:http://www.talis.com/source/blog/http:/www.talis.com/source/blog/images/Stop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876920"/>
          </a:xfrm>
          <a:prstGeom prst="rect">
            <a:avLst/>
          </a:prstGeom>
          <a:ln w="0">
            <a:noFill/>
          </a:ln>
        </p:spPr>
      </p:pic>
      <p:pic>
        <p:nvPicPr>
          <p:cNvPr id="68" name="Recorded Sound" descr=""/>
          <p:cNvPicPr/>
          <p:nvPr/>
        </p:nvPicPr>
        <p:blipFill>
          <a:blip r:embed="rId3"/>
          <a:stretch/>
        </p:blipFill>
        <p:spPr>
          <a:xfrm>
            <a:off x="-3049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would not s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4902480"/>
          </a:xfrm>
          <a:prstGeom prst="rect">
            <a:avLst/>
          </a:prstGeom>
          <a:ln w="0">
            <a:noFill/>
          </a:ln>
        </p:spPr>
      </p:pic>
      <p:pic>
        <p:nvPicPr>
          <p:cNvPr id="71" name="Recorded Sound" descr=""/>
          <p:cNvPicPr/>
          <p:nvPr/>
        </p:nvPicPr>
        <p:blipFill>
          <a:blip r:embed="rId2"/>
          <a:stretch/>
        </p:blipFill>
        <p:spPr>
          <a:xfrm>
            <a:off x="-30492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a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295280" y="1862280"/>
            <a:ext cx="6782040" cy="43099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50:01Z</dcterms:created>
  <dc:creator>itsuser</dc:creator>
  <dc:description/>
  <dc:language>en-US</dc:language>
  <cp:lastModifiedBy>itsuser</cp:lastModifiedBy>
  <dcterms:modified xsi:type="dcterms:W3CDTF">2009-04-09T17:15:18Z</dcterms:modified>
  <cp:revision>16</cp:revision>
  <dc:subject/>
  <dc:title>Mason the Panda</dc:title>
</cp:coreProperties>
</file>